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29B5-3BE2-4A1D-ADCB-4F403402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C07-F865-4274-8348-486EE14E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8C37-3E7B-4002-9F57-397712DC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00B-D122-4B4A-992F-7BF3CE48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83E7-15CD-4C50-8885-D5EAB95E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45D-9BE4-4593-9D64-9B49DC39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E06-9CD2-4B29-B5BC-D77982AA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7C2-534D-4D59-ACED-19ADD7A6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325B-BB82-4672-A39C-7A29079C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8A0C-ECEF-46EF-A8FD-A174C2C8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54C-B2A1-48D7-A727-89579190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333D-DD18-4492-A12B-1935AF08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806B2-1D99-424F-88AC-821E351BE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ant ionic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63520" y="1138320"/>
          <a:ext cx="8612280" cy="4298760"/>
        </p:xfrm>
        <a:graphic>
          <a:graphicData uri="http://schemas.openxmlformats.org/drawingml/2006/table">
            <a:tbl>
              <a:tblPr/>
              <a:tblGrid>
                <a:gridCol w="1181160"/>
                <a:gridCol w="2263680"/>
                <a:gridCol w="1722600"/>
                <a:gridCol w="1839960"/>
                <a:gridCol w="160488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e at room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conductivity as sol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conductivity as molten or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ubility in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 melting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ol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melting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ol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melting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melting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TextBox 4"/>
          <p:cNvSpPr/>
          <p:nvPr/>
        </p:nvSpPr>
        <p:spPr>
          <a:xfrm>
            <a:off x="457200" y="559116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ch substance has a giant ionic structure? Explain your answ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do you know about the other the structure of the other three substanc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11:56:25Z</dcterms:created>
  <dc:creator>Nico Van De Casteele</dc:creator>
  <dc:description/>
  <dc:language>en-US</dc:language>
  <cp:lastModifiedBy>Nico Van De Casteele</cp:lastModifiedBy>
  <dcterms:modified xsi:type="dcterms:W3CDTF">2013-10-31T12:11:19Z</dcterms:modified>
  <cp:revision>3</cp:revision>
  <dc:subject/>
  <dc:title>Giant ionic structure</dc:title>
</cp:coreProperties>
</file>